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B23-1481-4F00-BA69-4B0B0509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B29-7CB1-4859-BFF1-B5B2C5E4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D66-D499-4DBF-9C3B-BCD0EAA2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EC5-46E4-41FF-B02B-D4A00D6D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5B0-70C5-4F96-B0C5-12C431D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8B7-2EC2-4A85-A862-8A3F8A62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370-61E3-4269-957D-EEC653E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653-9055-436A-A1B4-34EE88C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E48-60E6-46DB-8853-38A80D11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70D-C614-439A-9642-87A656B7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398-ABC8-4B49-8860-39D1C7D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DF7-3980-4B7E-93F9-1936D35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E45-7FEE-4EFF-AA24-03FC3FE5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табличного процессо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графического решения урав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юшова Ирин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Озерск, п.Метлино, МБОУ СОШ№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1268280"/>
          <a:ext cx="4498920" cy="28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4498920" cy="28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11120" y="5484960"/>
            <a:ext cx="59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образуем да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0" y="1268280"/>
          <a:ext cx="4572000" cy="28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268280"/>
                    <a:ext cx="457200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им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55505" b="0"/>
          <a:stretch/>
        </p:blipFill>
        <p:spPr>
          <a:xfrm>
            <a:off x="539640" y="1341360"/>
            <a:ext cx="2836800" cy="551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-919" r="25134" b="0"/>
          <a:stretch/>
        </p:blipFill>
        <p:spPr>
          <a:xfrm>
            <a:off x="4211640" y="1341360"/>
            <a:ext cx="4329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помощью мастера диаграмм выберем тип диаграммы Точе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63640" y="1916280"/>
            <a:ext cx="5400720" cy="4500360"/>
            <a:chOff x="1763640" y="1916280"/>
            <a:chExt cx="5400720" cy="45003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rcRect l="10629" t="1296" r="57873" b="59460"/>
            <a:stretch/>
          </p:blipFill>
          <p:spPr>
            <a:xfrm>
              <a:off x="1763640" y="1916280"/>
              <a:ext cx="5400720" cy="45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1763640" y="1916280"/>
              <a:ext cx="5400720" cy="45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точнее определить  первое решение системы уравнений уменьшим шаг 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-3;0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491" r="47581" b="9472"/>
          <a:stretch/>
        </p:blipFill>
        <p:spPr>
          <a:xfrm>
            <a:off x="468360" y="1844640"/>
            <a:ext cx="2459160" cy="410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7145" t="22341" r="13386" b="7774"/>
          <a:stretch/>
        </p:blipFill>
        <p:spPr>
          <a:xfrm>
            <a:off x="3276720" y="1844640"/>
            <a:ext cx="5759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точнее определить  второе решение системы уравнений уменьшим шаг 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3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041" t="19713" r="8429" b="10277"/>
          <a:stretch/>
        </p:blipFill>
        <p:spPr>
          <a:xfrm>
            <a:off x="3995640" y="1893960"/>
            <a:ext cx="4681800" cy="3551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2296" r="55705" b="10654"/>
          <a:stretch/>
        </p:blipFill>
        <p:spPr>
          <a:xfrm>
            <a:off x="611280" y="1844640"/>
            <a:ext cx="3022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м наше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42920" y="1413000"/>
          <a:ext cx="398772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39877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951840" y="4311720"/>
            <a:ext cx="69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ут координаты точек пересечения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1=-1,2  У=1,4                  Х2=4,2   У2=17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4520" y="2349360"/>
            <a:ext cx="642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890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 графиков  решите систему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05264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125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844640"/>
          <a:ext cx="2879640" cy="17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287964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184640" y="1905120"/>
          <a:ext cx="2835360" cy="17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1905120"/>
                    <a:ext cx="283536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3:48Z</dcterms:created>
  <dc:creator>Пользователь</dc:creator>
  <dc:description/>
  <dc:language>en-US</dc:language>
  <cp:lastModifiedBy>Пользователь</cp:lastModifiedBy>
  <dcterms:modified xsi:type="dcterms:W3CDTF">2013-01-19T05:30:50Z</dcterms:modified>
  <cp:revision>8</cp:revision>
  <dc:subject/>
  <dc:title>Слайд 1</dc:title>
</cp:coreProperties>
</file>